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E15B-5472-4981-ABC0-DA93A1A2F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F0C8-5B56-4543-B58A-88A17710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F4C1-5EA0-46E4-8951-F54CBB67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59B2-EB52-4599-A59C-53A0E578A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26796-F963-41DA-AF09-F619045A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23E04-8C3D-49A8-BF91-D2D374EF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4F38D-B4EB-4F15-A649-C613FAE8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6ED29-58C3-43B3-BA90-36B5C304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08B26-1915-449C-91B1-B8936952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EBD9D-E3D5-49E5-9F45-62188A22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B93E3-AC10-4229-8CE2-0BDA6CC7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9340-1B82-4372-AEB1-62D18810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C80A1-AC01-463E-A582-6C385F9F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A4E16-0911-4BBB-9B17-17B27C90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A437A-BCE8-4825-B415-660C5034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61776-E870-4BB8-A5DA-14A30CBA2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49DAE-3362-4A1D-AE39-0732818A5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0ACD-2187-41E1-A3D4-EF4BEF62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853C-EB6E-4042-807D-2D7A2673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B6DF-0CC6-45B2-955B-602EB78E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BFF0-27E2-4248-91F7-32971A26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7000-63D8-466C-A1B9-685B2BBF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401A-177D-4AEF-8E64-10BCBF1B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BC6C-CA8D-481A-8685-99DAE1A5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5298-A9C5-49BD-A815-0EC2B99370B8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5A49-2AB2-44E5-999F-2537F383061A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915920"/>
            <a:ext cx="86407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Rounded MT Bold"/>
              </a:rPr>
              <a:t>Techniques of morphing to stimulate the teaching with technology</a:t>
            </a:r>
            <a:br>
              <a:rPr sz="3200"/>
            </a:br>
            <a:r>
              <a:rPr b="1" lang="fr-FR" sz="2400" spc="-1" strike="noStrike">
                <a:solidFill>
                  <a:srgbClr val="ffffff"/>
                </a:solidFill>
                <a:latin typeface="Arial Rounded MT Bold"/>
              </a:rPr>
              <a:t>Examples within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Rounded MT Bold"/>
              </a:rPr>
              <a:t>the TI N’Spire environment and Cabri 3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486864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Jean-Jacques Dah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IREM of Toulou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Paul Sabatier University Toulouse Fr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jjdahan@wanadoo.f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6840360" cy="1185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034760" y="334800"/>
            <a:ext cx="211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July 1st-5th, 20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Krems AUST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115920"/>
            <a:ext cx="2195640" cy="1187280"/>
          </a:xfrm>
          <a:prstGeom prst="rect">
            <a:avLst/>
          </a:prstGeom>
          <a:solidFill>
            <a:srgbClr val="ffff99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surface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ith the previous techniqu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000" y="2708280"/>
            <a:ext cx="8964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military perspective in 2D DG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               </a:t>
            </a: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(Cabri 2 Plus and Graphs &amp; Geometry of TI-Nspi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surface pm.fig    08 MORPHING SURFACES.tns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the 3D graphing too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                </a:t>
            </a: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(TI-N’spi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8 MORPHING SURFACE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Fourier sums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3141360"/>
            <a:ext cx="82915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n controlled as an integ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n controlled as a real number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9 MORPHING FOURIER SUM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132000" y="1125360"/>
          <a:ext cx="2592360" cy="108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2000" y="1125360"/>
                    <a:ext cx="259236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delling a floating fla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120400"/>
            <a:ext cx="8229600" cy="44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First modelling with Cabri 3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Flag Cabri 3D.cg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Improving it with the use of the 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0 FLAG MODELLING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771640" y="2924280"/>
            <a:ext cx="324036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Cabri3ActiveDoc1" descr=""/>
          <p:cNvPicPr/>
          <p:nvPr/>
        </p:nvPicPr>
        <p:blipFill>
          <a:blip r:embed="rId2"/>
          <a:stretch/>
        </p:blipFill>
        <p:spPr>
          <a:xfrm>
            <a:off x="1403280" y="476280"/>
            <a:ext cx="6297840" cy="585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5880" y="6324480"/>
            <a:ext cx="68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rphing triangle polygone.cg3       morphing carre carre.cg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77840" y="1771560"/>
            <a:ext cx="78501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ank you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8" name=""/>
          <p:cNvSpPr/>
          <p:nvPr/>
        </p:nvSpPr>
        <p:spPr>
          <a:xfrm>
            <a:off x="2715480" y="5297400"/>
            <a:ext cx="61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jjdahan@wanadoo.f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3907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282600"/>
            <a:ext cx="9144000" cy="6219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560040" y="6524640"/>
            <a:ext cx="144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1 TITLE TIME.t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6868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 Rounded MT Bold"/>
              </a:rPr>
              <a:t>From graphs theory to Cabr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282420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55800" y="6375240"/>
            <a:ext cx="259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Tahoma"/>
              </a:rPr>
              <a:t>THEORIE GRAPHES MINI.fi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CabriGeometreIIPAX1"/>
          <p:cNvGraphicFramePr/>
          <p:nvPr/>
        </p:nvGraphicFramePr>
        <p:xfrm>
          <a:off x="395280" y="1125360"/>
          <a:ext cx="8280360" cy="518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CabriGeometreIIPAX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125360"/>
                    <a:ext cx="828036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Net of a cub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Cabri3ActiveDoc1" descr=""/>
          <p:cNvPicPr/>
          <p:nvPr/>
        </p:nvPicPr>
        <p:blipFill>
          <a:blip r:embed="rId2"/>
          <a:stretch/>
        </p:blipFill>
        <p:spPr>
          <a:xfrm>
            <a:off x="1476360" y="1197000"/>
            <a:ext cx="5832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1=2=3 theorem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Cabri3ActiveDoc1" descr=""/>
          <p:cNvPicPr/>
          <p:nvPr/>
        </p:nvPicPr>
        <p:blipFill>
          <a:blip r:embed="rId2"/>
          <a:stretch/>
        </p:blipFill>
        <p:spPr>
          <a:xfrm>
            <a:off x="1403280" y="1125360"/>
            <a:ext cx="59054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Cabri3ActiveDoc1" descr=""/>
          <p:cNvPicPr/>
          <p:nvPr/>
        </p:nvPicPr>
        <p:blipFill>
          <a:blip r:embed="rId2"/>
          <a:stretch/>
        </p:blipFill>
        <p:spPr>
          <a:xfrm>
            <a:off x="1332000" y="260280"/>
            <a:ext cx="6264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 Rounded MT Bold"/>
              </a:rPr>
              <a:t>Initial techniques </a:t>
            </a:r>
            <a:br>
              <a:rPr sz="4000"/>
            </a:b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(using a special invariant in Cabri construction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2987640"/>
            <a:ext cx="896472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An example to show this property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2 INITIAL IDEA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Morphing segments onto arcs or seg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3 INITIAL TECHNIQUE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with graph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here graphs are squares, circles, astroid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2769840"/>
            <a:ext cx="8964720" cy="34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functions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4 MORPHING CURVES OF FUNCTION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parametric and polar fun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5 circle square astroid param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</a:t>
            </a: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06 morphing square circle polar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number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ith barycentres, dilations, slide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000" y="2914560"/>
            <a:ext cx="8964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1 onto 3 (basic techniqu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2 onto 4 (advanced techniqu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7 MORPHING NUMBER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10:02:56Z</dcterms:created>
  <dc:creator>DAHAN Jean-Jacques</dc:creator>
  <dc:description/>
  <dc:language>en-US</dc:language>
  <cp:lastModifiedBy>DAHAN Jean-Jacques</cp:lastModifiedBy>
  <dcterms:modified xsi:type="dcterms:W3CDTF">2014-09-22T16:34:01Z</dcterms:modified>
  <cp:revision>16</cp:revision>
  <dc:subject/>
  <dc:title>Techniques of morphing to stimulate the teaching with technology Examples within  the TI N’Spire environment and Cabri 3D</dc:title>
</cp:coreProperties>
</file>